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28B-E023-41F3-A88E-8394C254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985-9AFB-4BAA-8580-3B42563B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349-8C66-4196-B579-806F6EE1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E82-E2A6-4076-9235-E6B8C6D9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820-6937-493B-88DC-46FF39E0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873-C4FC-449A-9A61-B1FA74A7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FF4-C794-4BF1-B15E-C67DB21A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CCD-3E1E-4C7E-8D8F-DA2AFDF3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654-648A-465F-8A88-F46C103F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E29-534A-4DBB-9CED-A5C5F177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401-09FB-4BD4-9776-AD5014A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9C1-2AD3-4757-BA26-6A5821E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2453-A3D5-45C5-B1B6-D263A8C9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Zumbi_dos_Palmares" TargetMode="External"/><Relationship Id="rId3" Type="http://schemas.openxmlformats.org/officeDocument/2006/relationships/hyperlink" Target="http://pt.wikipedia.org/wiki/1695" TargetMode="External"/><Relationship Id="rId4" Type="http://schemas.openxmlformats.org/officeDocument/2006/relationships/hyperlink" Target="http://pt.wikipedia.org/wiki/1594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Consciência Ne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Falar-se em "Consciência Negra", é algo que deve ser buscado em suas origens.</a:t>
            </a:r>
            <a:br>
              <a:rPr sz="2400"/>
            </a:b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Os negros foram violentamente arrancados de seu torrão natal.</a:t>
            </a:r>
            <a:br>
              <a:rPr sz="2400"/>
            </a:b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A violência sofrida fez com que se apegassem às suas origens, aos seus deuses, às suas crenças, como uma espécie de defesa contra as violências a que sempre foram submetidos. A data foi escolhida por coincidir com o dia da morte de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umbi dos Palmares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, em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695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. Apesar das várias dúvidas levantadas quanto ao caráter de Zumbi nos últimos anos (comprovou-se, por exemplo, que ele mantinha escravos particulares) o Dia da Consciência Negra procura ser uma data para se lembrar a resistência do negro à escravidão de forma geral, desde o primeiro transporte forçado de africanos para o solo brasileiro (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594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Alunos : Anderson e Marcos  n° : 02 e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Prof: Nil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Serie : 7 ° “ B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52:17Z</dcterms:created>
  <dc:creator>SEDMS</dc:creator>
  <dc:description/>
  <dc:language>en-US</dc:language>
  <cp:lastModifiedBy>administradorr</cp:lastModifiedBy>
  <dcterms:modified xsi:type="dcterms:W3CDTF">2010-11-09T17:51:59Z</dcterms:modified>
  <cp:revision>3</cp:revision>
  <dc:subject/>
  <dc:title>A Consciência Negra</dc:title>
</cp:coreProperties>
</file>